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E4C-1D4A-4D5D-9A80-3F036149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01D-079A-4AD3-ADCE-43269999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2E1-945A-4D63-86B5-36C1597D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44D-4427-420D-B6CA-7FBA91D5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2629-6089-41B9-9306-49EE2E0D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31BE-365E-41FD-A536-DDC85329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4BDF-7388-4065-BC9B-F2DB0336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F14D-C97A-4544-A070-090CBB7A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4DFF-4A62-4F02-99B0-D1A1835F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830B-0C4A-4DCD-9185-0B79A5EE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9A71-12CC-4A94-89FD-0CBBDA50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632-EFBC-466B-9683-E3894C77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277D-1917-4150-B728-C4DE314A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F386-B544-4FE1-9E7E-37A7CCA1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C2E2-3479-4ACB-ACF9-7AA8FEB7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CE58-41EE-4C54-BFED-48D0B84B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6A98-6757-4513-8374-6A70C2FE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1524A-EE2E-48EF-9040-037445CE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661BD-ED09-4735-A56E-2E2AFB04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16A89-A293-4A83-B3CC-C5DE62B0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5ED91-079F-48E4-BE44-5F5F7636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BEBA4-5075-4384-9EA3-D793D63C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67E-27F6-4C9C-A974-1D75491E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ADC82-72E3-435D-A889-789DC74D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D8720-28F2-4BE4-A0FE-0C88EA31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61FA6-DDA4-4EE1-8095-B9DB9BAE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E243F-84AA-4643-AC00-676B06C5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12FB0-8F7F-40B9-A577-3899EBF4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3C14-930D-46A2-BC09-F48CB130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195B2-4C8F-4F45-8BC2-960C1674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72C3C-8CB7-44FF-AE29-09B2BD62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97CF3-4DE3-459F-B053-70327B2B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978EC-C711-43A1-96CA-561CF46E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D39-A63E-424E-AE47-3EE9450C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FA426-6EAE-4C82-8FFA-9D7E3BFF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D2340-13AD-4478-88CE-DB1DFF0A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AF7D3-7B0A-4989-BDDE-6358DED4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6892C-DF07-4126-81AA-A531CB89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BCD01-20C6-4286-9B45-9EEEC485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E1571-2AC1-4CD6-8812-B8D14565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56FC1-9F0F-4781-A2E7-BD355884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279C7-2370-4D19-83B5-95FD4BD6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645B8-3D57-4665-A377-1255D45E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D5C27-AFD4-40A3-B10A-BD39A608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95F-BDE1-4AC1-B49E-38BC8F33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C385F-6FC4-4E0B-97C4-21191B3E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12B7D-A416-4F1E-88DB-9D3AE6DE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B0A29-5C60-4021-9AB5-40B5918C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34EE0-5726-40CB-9303-ED79A990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BC5CE-3C59-4099-B42D-C5E3FA86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93FD5-7AC0-4C02-9C9D-449D22ED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39ED7-0819-4B94-982F-A10D32EF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C4E7B-2A45-4F44-A9F2-88DC5928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FAFEF-1BFE-43BA-9EF0-A1BF4796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99114-495D-46E0-9080-310800C5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B178-11F3-4CE0-B484-037B3219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1423B-E5F7-4C5E-810C-3788EB57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F6923-D86B-4E92-A8FE-DC84B5C7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059BB-BD5C-453C-B42F-46FBD01D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C7C79-E588-4B94-8567-CDAEB4BF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BE263-8182-4A85-A665-66FF9DEF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A8118-BE82-4E3F-B47F-0BF2F9D6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9AFBC-3E1B-4025-BFE5-B37416C2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D021B-0A7F-455E-8444-E36E2C66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B966F-1297-4536-B6AE-165BD3A9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F7D54-FC02-4975-B161-88835BD0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9DE6-6CE2-42BA-910F-60199E83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BDDDF-6C43-4451-94F1-3631A0F8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01CAD-464A-47F2-9DC3-83041B4E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24CF4-59C6-417E-8AA0-1FD2A138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A5B3-A904-426B-92CA-E92C8A56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A41B-3B3C-4213-B4D7-4E3E34C9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682A-B9BC-4556-9769-618ACC815320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7D4B-B50B-49DF-8BD0-D44F56478EDA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0FD0-4890-4D67-830D-229EC4EB4939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E085-6AAE-4A25-ABE2-B9B4F699B77E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B4F7-EAFF-4993-883A-480B0FD5012B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4D56-5915-42C2-948A-89F0E31C82F0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añol 2 Capítulo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What is a REFLEXIVE VERB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 the subject (performer of the action) and the object (the receiver of that action) ARE THE SAME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English—the object of a reflexive verb is usually –myself, yourself, himself, herself, itself, ourselves or themsel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flexive verbs NEED a reflexive pronou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hat are the reflexive pronouns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m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sotro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n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los/Ella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/Ella/Ud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nouns are placed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N FRONT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f a conjugated verb OR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ttache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an infini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.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M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veo.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see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myself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M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quiero ver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nt to see my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iero ver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m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ome reminders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reflexives are stem-changing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involve the mentioning of personal hygenine. One must use el/la/los/las BEFORE the body par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 cepill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lo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brush my ha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 lava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lo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ash your ha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verbs can be reflexives and non-reflex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6480" indent="-234000">
              <a:spcBef>
                <a:spcPts val="499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can scratch my cat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an washes clothes on Sund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66480" indent="-234000">
              <a:spcBef>
                <a:spcPts val="499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can scratch myself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an washes his ha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380520"/>
            <a:ext cx="3657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sarse c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get marri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amorarse 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fall in love wi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fada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become ang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quivoca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make a mistak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dua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gradu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rcha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march aw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267080" y="380520"/>
            <a:ext cx="3657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eja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compl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rta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beha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lvidarse 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forg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e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gobble 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to go aw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3" descr="C:\Documents and Settings\Administrator\Local Settings\Temporary Internet Files\Content.IE5\TUAJ1N5X\MCj02856140000[1].wmf"/>
          <p:cNvPicPr/>
          <p:nvPr/>
        </p:nvPicPr>
        <p:blipFill>
          <a:blip r:embed="rId1"/>
          <a:stretch/>
        </p:blipFill>
        <p:spPr>
          <a:xfrm>
            <a:off x="6400800" y="3581280"/>
            <a:ext cx="24382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Franklin Gothic Book"/>
              </a:rPr>
              <a:t>Traduzca en español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29492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-Ellos (levantarse) a las siete todos los día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-El (llamarse) Marco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-Yo (llamarse) Patrici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4-¿A qué hora (levantarse) Patricia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-Ella (quedarse) en casa todas de las noch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-Susana siempre (peinarse) con mucho cuidad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7-Yo nunca (acostarse) tempran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6840" y="914040"/>
            <a:ext cx="7467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-Los niños (bañarse) en el rí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9-Nosotros (ponerse) nuestros abrigos antes de sali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-Ellos siempre (divertirse) a la fiest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1-Tú (lavarse) antes de com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2-Adela (quejarse) demasiad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C:\Documents and Settings\Administrator\Local Settings\Temporary Internet Files\Content.IE5\I669Q1CW\MCj04382050000[1].wmf"/>
          <p:cNvPicPr/>
          <p:nvPr/>
        </p:nvPicPr>
        <p:blipFill>
          <a:blip r:embed="rId1"/>
          <a:stretch/>
        </p:blipFill>
        <p:spPr>
          <a:xfrm>
            <a:off x="3581280" y="4648320"/>
            <a:ext cx="1825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8:34:35Z</dcterms:created>
  <dc:creator> </dc:creator>
  <dc:description/>
  <dc:language>en-US</dc:language>
  <cp:lastModifiedBy> </cp:lastModifiedBy>
  <dcterms:modified xsi:type="dcterms:W3CDTF">2009-10-01T20:22:08Z</dcterms:modified>
  <cp:revision>6</cp:revision>
  <dc:subject/>
  <dc:title>Reflexive verbs</dc:title>
</cp:coreProperties>
</file>